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B2CFD67-0C37-49C2-86C9-79F4D6BD33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C35E4CC0-B99D-4430-B8A5-0566A0616176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1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2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4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6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7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>Tanel Tammet</cp:lastModifiedBy>
  <dcterms:modified xsi:type="dcterms:W3CDTF">2023-09-07T17:24:38Z</dcterms:modified>
  <cp:revision>4</cp:revision>
  <dc:subject/>
  <dc:title> </dc:title>
</cp:coreProperties>
</file>